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  <p:sldId id="260" r:id="rId25"/>
    <p:sldId id="261" r:id="rId26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dt" idx="1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 type="sldImg"/>
          </p:nvPr>
        </p:nvSpPr>
        <p:spPr>
          <a:xfrm>
            <a:off x="901440" y="739440"/>
            <a:ext cx="4932360" cy="370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 type="ftr" idx="2"/>
          </p:nvPr>
        </p:nvSpPr>
        <p:spPr>
          <a:xfrm>
            <a:off x="-3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6"/>
          <p:cNvSpPr>
            <a:spLocks noGrp="1"/>
          </p:cNvSpPr>
          <p:nvPr>
            <p:ph type="sldNum" idx="3"/>
          </p:nvPr>
        </p:nvSpPr>
        <p:spPr>
          <a:xfrm>
            <a:off x="38145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194C6-8B6C-4BF4-8C1D-C604425AEB2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Rectangle 7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41BA3-FED4-4491-8EF0-4A12A062165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944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0728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360" y="4054680"/>
            <a:ext cx="820728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944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4005000" cy="40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3880" y="1916280"/>
            <a:ext cx="4005000" cy="40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944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963360"/>
            <a:ext cx="8229600" cy="30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944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40050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880" y="1916280"/>
            <a:ext cx="4005000" cy="40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8360" y="4054680"/>
            <a:ext cx="40050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944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4005000" cy="40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880" y="1916280"/>
            <a:ext cx="40050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3880" y="4054680"/>
            <a:ext cx="40050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944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40050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3880" y="1916280"/>
            <a:ext cx="40050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68360" y="4054680"/>
            <a:ext cx="820728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944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0728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8360" y="4054680"/>
            <a:ext cx="820728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944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40050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880" y="1916280"/>
            <a:ext cx="40050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68360" y="4054680"/>
            <a:ext cx="40050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3880" y="4054680"/>
            <a:ext cx="40050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944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26424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43240" y="1916280"/>
            <a:ext cx="26424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18120" y="1916280"/>
            <a:ext cx="26424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8360" y="4054680"/>
            <a:ext cx="26424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43240" y="4054680"/>
            <a:ext cx="26424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18120" y="4054680"/>
            <a:ext cx="26424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44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40050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3880" y="1916280"/>
            <a:ext cx="40050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8360" y="4054680"/>
            <a:ext cx="40050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3880" y="4054680"/>
            <a:ext cx="40050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944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68360" y="1916280"/>
            <a:ext cx="8207280" cy="40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944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07280" cy="40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944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4005000" cy="40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3880" y="1916280"/>
            <a:ext cx="4005000" cy="40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944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963360"/>
            <a:ext cx="8229600" cy="30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944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40050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3880" y="1916280"/>
            <a:ext cx="4005000" cy="40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68360" y="4054680"/>
            <a:ext cx="40050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944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4005000" cy="40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3880" y="1916280"/>
            <a:ext cx="40050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3880" y="4054680"/>
            <a:ext cx="40050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944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40050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3880" y="1916280"/>
            <a:ext cx="40050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68360" y="4054680"/>
            <a:ext cx="820728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944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0728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8360" y="4054680"/>
            <a:ext cx="820728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944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40050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3880" y="1916280"/>
            <a:ext cx="40050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8360" y="4054680"/>
            <a:ext cx="40050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3880" y="4054680"/>
            <a:ext cx="40050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944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26424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43240" y="1916280"/>
            <a:ext cx="26424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18120" y="1916280"/>
            <a:ext cx="26424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360" y="4054680"/>
            <a:ext cx="26424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43240" y="4054680"/>
            <a:ext cx="26424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18120" y="4054680"/>
            <a:ext cx="26424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944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26424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43240" y="1916280"/>
            <a:ext cx="26424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18120" y="1916280"/>
            <a:ext cx="26424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8360" y="4054680"/>
            <a:ext cx="26424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43240" y="4054680"/>
            <a:ext cx="26424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18120" y="4054680"/>
            <a:ext cx="26424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944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468360" y="1916280"/>
            <a:ext cx="8207280" cy="40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944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07280" cy="40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944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4005000" cy="40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3880" y="1916280"/>
            <a:ext cx="4005000" cy="40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944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457200" y="963360"/>
            <a:ext cx="8229600" cy="30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944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40050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3880" y="1916280"/>
            <a:ext cx="4005000" cy="40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8360" y="4054680"/>
            <a:ext cx="40050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944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4005000" cy="40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880" y="1916280"/>
            <a:ext cx="40050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673880" y="4054680"/>
            <a:ext cx="40050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944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40050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880" y="1916280"/>
            <a:ext cx="40050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8360" y="4054680"/>
            <a:ext cx="820728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944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0728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8360" y="4054680"/>
            <a:ext cx="820728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944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40050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3880" y="1916280"/>
            <a:ext cx="40050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8360" y="4054680"/>
            <a:ext cx="40050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673880" y="4054680"/>
            <a:ext cx="40050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944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26424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243240" y="1916280"/>
            <a:ext cx="26424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018120" y="1916280"/>
            <a:ext cx="26424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68360" y="4054680"/>
            <a:ext cx="26424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3243240" y="4054680"/>
            <a:ext cx="26424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6018120" y="4054680"/>
            <a:ext cx="26424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944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468360" y="1916280"/>
            <a:ext cx="8207280" cy="40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944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07280" cy="40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944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4005000" cy="40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3880" y="1916280"/>
            <a:ext cx="4005000" cy="40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944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457200" y="963360"/>
            <a:ext cx="8229600" cy="30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944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40050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3880" y="1916280"/>
            <a:ext cx="4005000" cy="40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8360" y="4054680"/>
            <a:ext cx="40050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944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68360" y="1916280"/>
            <a:ext cx="8207280" cy="40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944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4005000" cy="40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880" y="1916280"/>
            <a:ext cx="40050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673880" y="4054680"/>
            <a:ext cx="40050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944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40050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3880" y="1916280"/>
            <a:ext cx="40050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68360" y="4054680"/>
            <a:ext cx="820728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944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0728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8360" y="4054680"/>
            <a:ext cx="820728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944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40050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3880" y="1916280"/>
            <a:ext cx="40050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68360" y="4054680"/>
            <a:ext cx="40050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673880" y="4054680"/>
            <a:ext cx="40050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944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26424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3243240" y="1916280"/>
            <a:ext cx="26424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018120" y="1916280"/>
            <a:ext cx="26424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68360" y="4054680"/>
            <a:ext cx="26424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3243240" y="4054680"/>
            <a:ext cx="26424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6018120" y="4054680"/>
            <a:ext cx="26424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944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68360" y="1916280"/>
            <a:ext cx="8207280" cy="40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944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07280" cy="40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944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4005000" cy="40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3880" y="1916280"/>
            <a:ext cx="4005000" cy="40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944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944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07280" cy="40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963360"/>
            <a:ext cx="8229600" cy="30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944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40050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3880" y="1916280"/>
            <a:ext cx="4005000" cy="40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68360" y="4054680"/>
            <a:ext cx="40050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944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4005000" cy="40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3880" y="1916280"/>
            <a:ext cx="40050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3880" y="4054680"/>
            <a:ext cx="40050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944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40050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880" y="1916280"/>
            <a:ext cx="40050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68360" y="4054680"/>
            <a:ext cx="820728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944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0728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8360" y="4054680"/>
            <a:ext cx="820728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944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40050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3880" y="1916280"/>
            <a:ext cx="40050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68360" y="4054680"/>
            <a:ext cx="40050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3880" y="4054680"/>
            <a:ext cx="40050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944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26424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43240" y="1916280"/>
            <a:ext cx="26424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18120" y="1916280"/>
            <a:ext cx="26424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8360" y="4054680"/>
            <a:ext cx="26424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43240" y="4054680"/>
            <a:ext cx="26424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18120" y="4054680"/>
            <a:ext cx="26424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944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468360" y="1916280"/>
            <a:ext cx="8207280" cy="40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944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07280" cy="40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944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4005000" cy="40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3880" y="1916280"/>
            <a:ext cx="4005000" cy="40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944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4005000" cy="40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3880" y="1916280"/>
            <a:ext cx="4005000" cy="40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944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ubTitle"/>
          </p:nvPr>
        </p:nvSpPr>
        <p:spPr>
          <a:xfrm>
            <a:off x="457200" y="963360"/>
            <a:ext cx="8229600" cy="30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944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40050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3880" y="1916280"/>
            <a:ext cx="4005000" cy="40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68360" y="4054680"/>
            <a:ext cx="40050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944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4005000" cy="40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3880" y="1916280"/>
            <a:ext cx="40050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673880" y="4054680"/>
            <a:ext cx="40050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944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40050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3880" y="1916280"/>
            <a:ext cx="40050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68360" y="4054680"/>
            <a:ext cx="820728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944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0728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8360" y="4054680"/>
            <a:ext cx="820728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944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40050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880" y="1916280"/>
            <a:ext cx="40050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8360" y="4054680"/>
            <a:ext cx="40050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673880" y="4054680"/>
            <a:ext cx="40050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944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26424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3243240" y="1916280"/>
            <a:ext cx="26424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6018120" y="1916280"/>
            <a:ext cx="26424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68360" y="4054680"/>
            <a:ext cx="26424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/>
          </p:nvPr>
        </p:nvSpPr>
        <p:spPr>
          <a:xfrm>
            <a:off x="3243240" y="4054680"/>
            <a:ext cx="26424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7"/>
          <p:cNvSpPr>
            <a:spLocks noGrp="1"/>
          </p:cNvSpPr>
          <p:nvPr>
            <p:ph/>
          </p:nvPr>
        </p:nvSpPr>
        <p:spPr>
          <a:xfrm>
            <a:off x="6018120" y="4054680"/>
            <a:ext cx="26424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944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944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subTitle"/>
          </p:nvPr>
        </p:nvSpPr>
        <p:spPr>
          <a:xfrm>
            <a:off x="468360" y="1916280"/>
            <a:ext cx="8207280" cy="40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944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07280" cy="40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944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4005000" cy="40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880" y="1916280"/>
            <a:ext cx="4005000" cy="40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944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ubTitle"/>
          </p:nvPr>
        </p:nvSpPr>
        <p:spPr>
          <a:xfrm>
            <a:off x="457200" y="963360"/>
            <a:ext cx="8229600" cy="30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944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40050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3880" y="1916280"/>
            <a:ext cx="4005000" cy="40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68360" y="4054680"/>
            <a:ext cx="40050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944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4005000" cy="40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3880" y="1916280"/>
            <a:ext cx="40050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673880" y="4054680"/>
            <a:ext cx="40050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944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40050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3880" y="1916280"/>
            <a:ext cx="40050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68360" y="4054680"/>
            <a:ext cx="820728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944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0728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8360" y="4054680"/>
            <a:ext cx="820728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944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40050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880" y="1916280"/>
            <a:ext cx="40050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8360" y="4054680"/>
            <a:ext cx="40050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4673880" y="4054680"/>
            <a:ext cx="40050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963360"/>
            <a:ext cx="8229600" cy="30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944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26424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3243240" y="1916280"/>
            <a:ext cx="26424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6018120" y="1916280"/>
            <a:ext cx="26424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468360" y="4054680"/>
            <a:ext cx="26424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6"/>
          <p:cNvSpPr>
            <a:spLocks noGrp="1"/>
          </p:cNvSpPr>
          <p:nvPr>
            <p:ph/>
          </p:nvPr>
        </p:nvSpPr>
        <p:spPr>
          <a:xfrm>
            <a:off x="3243240" y="4054680"/>
            <a:ext cx="26424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7"/>
          <p:cNvSpPr>
            <a:spLocks noGrp="1"/>
          </p:cNvSpPr>
          <p:nvPr>
            <p:ph/>
          </p:nvPr>
        </p:nvSpPr>
        <p:spPr>
          <a:xfrm>
            <a:off x="6018120" y="4054680"/>
            <a:ext cx="26424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944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subTitle"/>
          </p:nvPr>
        </p:nvSpPr>
        <p:spPr>
          <a:xfrm>
            <a:off x="468360" y="1916280"/>
            <a:ext cx="8207280" cy="40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944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07280" cy="40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944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4005000" cy="40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3880" y="1916280"/>
            <a:ext cx="4005000" cy="40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944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ubTitle"/>
          </p:nvPr>
        </p:nvSpPr>
        <p:spPr>
          <a:xfrm>
            <a:off x="457200" y="963360"/>
            <a:ext cx="8229600" cy="30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944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40050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880" y="1916280"/>
            <a:ext cx="4005000" cy="40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68360" y="4054680"/>
            <a:ext cx="40050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944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4005000" cy="40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3880" y="1916280"/>
            <a:ext cx="40050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673880" y="4054680"/>
            <a:ext cx="40050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944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40050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3880" y="1916280"/>
            <a:ext cx="40050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68360" y="4054680"/>
            <a:ext cx="820728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944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40050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880" y="1916280"/>
            <a:ext cx="4005000" cy="40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68360" y="4054680"/>
            <a:ext cx="40050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944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0728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8360" y="4054680"/>
            <a:ext cx="820728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944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40050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3880" y="1916280"/>
            <a:ext cx="40050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68360" y="4054680"/>
            <a:ext cx="40050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/>
          </p:nvPr>
        </p:nvSpPr>
        <p:spPr>
          <a:xfrm>
            <a:off x="4673880" y="4054680"/>
            <a:ext cx="40050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944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26424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3243240" y="1916280"/>
            <a:ext cx="26424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6018120" y="1916280"/>
            <a:ext cx="26424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/>
          </p:nvPr>
        </p:nvSpPr>
        <p:spPr>
          <a:xfrm>
            <a:off x="468360" y="4054680"/>
            <a:ext cx="26424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6"/>
          <p:cNvSpPr>
            <a:spLocks noGrp="1"/>
          </p:cNvSpPr>
          <p:nvPr>
            <p:ph/>
          </p:nvPr>
        </p:nvSpPr>
        <p:spPr>
          <a:xfrm>
            <a:off x="3243240" y="4054680"/>
            <a:ext cx="26424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7"/>
          <p:cNvSpPr>
            <a:spLocks noGrp="1"/>
          </p:cNvSpPr>
          <p:nvPr>
            <p:ph/>
          </p:nvPr>
        </p:nvSpPr>
        <p:spPr>
          <a:xfrm>
            <a:off x="6018120" y="4054680"/>
            <a:ext cx="26424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944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subTitle"/>
          </p:nvPr>
        </p:nvSpPr>
        <p:spPr>
          <a:xfrm>
            <a:off x="468360" y="1916280"/>
            <a:ext cx="8207280" cy="40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944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07280" cy="40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944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4005000" cy="40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3880" y="1916280"/>
            <a:ext cx="4005000" cy="40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944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ubTitle"/>
          </p:nvPr>
        </p:nvSpPr>
        <p:spPr>
          <a:xfrm>
            <a:off x="457200" y="963360"/>
            <a:ext cx="8229600" cy="30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944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40050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3880" y="1916280"/>
            <a:ext cx="4005000" cy="40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68360" y="4054680"/>
            <a:ext cx="40050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944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68360" y="1916280"/>
            <a:ext cx="8207280" cy="40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944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4005000" cy="40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3880" y="1916280"/>
            <a:ext cx="40050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3880" y="4054680"/>
            <a:ext cx="40050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944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4005000" cy="40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3880" y="1916280"/>
            <a:ext cx="40050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673880" y="4054680"/>
            <a:ext cx="40050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944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40050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3880" y="1916280"/>
            <a:ext cx="40050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468360" y="4054680"/>
            <a:ext cx="820728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944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0728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8360" y="4054680"/>
            <a:ext cx="820728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944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40050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3880" y="1916280"/>
            <a:ext cx="40050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68360" y="4054680"/>
            <a:ext cx="40050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4673880" y="4054680"/>
            <a:ext cx="40050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944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26424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3243240" y="1916280"/>
            <a:ext cx="26424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6018120" y="1916280"/>
            <a:ext cx="26424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/>
          </p:nvPr>
        </p:nvSpPr>
        <p:spPr>
          <a:xfrm>
            <a:off x="468360" y="4054680"/>
            <a:ext cx="26424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6"/>
          <p:cNvSpPr>
            <a:spLocks noGrp="1"/>
          </p:cNvSpPr>
          <p:nvPr>
            <p:ph/>
          </p:nvPr>
        </p:nvSpPr>
        <p:spPr>
          <a:xfrm>
            <a:off x="3243240" y="4054680"/>
            <a:ext cx="26424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7"/>
          <p:cNvSpPr>
            <a:spLocks noGrp="1"/>
          </p:cNvSpPr>
          <p:nvPr>
            <p:ph/>
          </p:nvPr>
        </p:nvSpPr>
        <p:spPr>
          <a:xfrm>
            <a:off x="6018120" y="4054680"/>
            <a:ext cx="26424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944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68360" y="1916280"/>
            <a:ext cx="8207280" cy="40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944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07280" cy="40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944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4005000" cy="40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3880" y="1916280"/>
            <a:ext cx="4005000" cy="40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944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944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40050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3880" y="1916280"/>
            <a:ext cx="40050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360" y="4054680"/>
            <a:ext cx="820728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963360"/>
            <a:ext cx="8229600" cy="30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944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40050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880" y="1916280"/>
            <a:ext cx="4005000" cy="40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8360" y="4054680"/>
            <a:ext cx="40050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944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4005000" cy="40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880" y="1916280"/>
            <a:ext cx="40050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3880" y="4054680"/>
            <a:ext cx="40050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944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40050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3880" y="1916280"/>
            <a:ext cx="40050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68360" y="4054680"/>
            <a:ext cx="820728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944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0728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8360" y="4054680"/>
            <a:ext cx="820728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944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40050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880" y="1916280"/>
            <a:ext cx="40050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68360" y="4054680"/>
            <a:ext cx="40050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3880" y="4054680"/>
            <a:ext cx="40050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944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26424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43240" y="1916280"/>
            <a:ext cx="26424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18120" y="1916280"/>
            <a:ext cx="26424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68360" y="4054680"/>
            <a:ext cx="26424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43240" y="4054680"/>
            <a:ext cx="26424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18120" y="4054680"/>
            <a:ext cx="26424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944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0728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360" y="4054680"/>
            <a:ext cx="820728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944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40050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3880" y="1916280"/>
            <a:ext cx="40050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8360" y="4054680"/>
            <a:ext cx="40050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3880" y="4054680"/>
            <a:ext cx="40050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944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26424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43240" y="1916280"/>
            <a:ext cx="26424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18120" y="1916280"/>
            <a:ext cx="26424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360" y="4054680"/>
            <a:ext cx="26424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43240" y="4054680"/>
            <a:ext cx="26424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18120" y="4054680"/>
            <a:ext cx="26424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944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68360" y="1916280"/>
            <a:ext cx="8207280" cy="40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944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07280" cy="40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944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4005000" cy="40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3880" y="1916280"/>
            <a:ext cx="4005000" cy="40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944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944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07280" cy="40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963360"/>
            <a:ext cx="8229600" cy="30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944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40050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3880" y="1916280"/>
            <a:ext cx="4005000" cy="40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8360" y="4054680"/>
            <a:ext cx="40050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944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4005000" cy="40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3880" y="1916280"/>
            <a:ext cx="40050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3880" y="4054680"/>
            <a:ext cx="40050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944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40050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880" y="1916280"/>
            <a:ext cx="40050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8360" y="4054680"/>
            <a:ext cx="820728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944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0728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8360" y="4054680"/>
            <a:ext cx="820728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944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40050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3880" y="1916280"/>
            <a:ext cx="40050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8360" y="4054680"/>
            <a:ext cx="40050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3880" y="4054680"/>
            <a:ext cx="40050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944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26424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43240" y="1916280"/>
            <a:ext cx="26424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18120" y="1916280"/>
            <a:ext cx="26424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8360" y="4054680"/>
            <a:ext cx="26424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43240" y="4054680"/>
            <a:ext cx="26424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18120" y="4054680"/>
            <a:ext cx="26424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944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68360" y="1916280"/>
            <a:ext cx="8207280" cy="40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944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07280" cy="40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944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4005000" cy="40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3880" y="1916280"/>
            <a:ext cx="4005000" cy="40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944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4005000" cy="40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3880" y="1916280"/>
            <a:ext cx="4005000" cy="40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944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963360"/>
            <a:ext cx="8229600" cy="30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944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40050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3880" y="1916280"/>
            <a:ext cx="4005000" cy="40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8360" y="4054680"/>
            <a:ext cx="40050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944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4005000" cy="40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3880" y="1916280"/>
            <a:ext cx="40050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3880" y="4054680"/>
            <a:ext cx="40050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944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40050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3880" y="1916280"/>
            <a:ext cx="40050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8360" y="4054680"/>
            <a:ext cx="820728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944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0728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360" y="4054680"/>
            <a:ext cx="820728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944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40050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880" y="1916280"/>
            <a:ext cx="40050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8360" y="4054680"/>
            <a:ext cx="40050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3880" y="4054680"/>
            <a:ext cx="40050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944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26424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43240" y="1916280"/>
            <a:ext cx="26424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18120" y="1916280"/>
            <a:ext cx="26424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8360" y="4054680"/>
            <a:ext cx="26424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43240" y="4054680"/>
            <a:ext cx="26424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18120" y="4054680"/>
            <a:ext cx="26424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44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944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468360" y="1916280"/>
            <a:ext cx="8207280" cy="40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944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07280" cy="40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944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4005000" cy="40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880" y="1916280"/>
            <a:ext cx="4005000" cy="40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944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457200" y="963360"/>
            <a:ext cx="8229600" cy="30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944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40050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3880" y="1916280"/>
            <a:ext cx="4005000" cy="40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8360" y="4054680"/>
            <a:ext cx="40050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944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4005000" cy="40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3880" y="1916280"/>
            <a:ext cx="40050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73880" y="4054680"/>
            <a:ext cx="40050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944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40050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3880" y="1916280"/>
            <a:ext cx="40050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8360" y="4054680"/>
            <a:ext cx="820728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944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0728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8360" y="4054680"/>
            <a:ext cx="820728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944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40050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880" y="1916280"/>
            <a:ext cx="40050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8360" y="4054680"/>
            <a:ext cx="40050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73880" y="4054680"/>
            <a:ext cx="40050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963360"/>
            <a:ext cx="8229600" cy="30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944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26424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243240" y="1916280"/>
            <a:ext cx="26424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18120" y="1916280"/>
            <a:ext cx="26424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8360" y="4054680"/>
            <a:ext cx="26424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243240" y="4054680"/>
            <a:ext cx="26424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018120" y="4054680"/>
            <a:ext cx="26424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944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68360" y="1916280"/>
            <a:ext cx="8207280" cy="40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944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07280" cy="40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944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4005000" cy="40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880" y="1916280"/>
            <a:ext cx="4005000" cy="40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944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963360"/>
            <a:ext cx="8229600" cy="30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944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40050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3880" y="1916280"/>
            <a:ext cx="4005000" cy="40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8360" y="4054680"/>
            <a:ext cx="40050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944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4005000" cy="40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3880" y="1916280"/>
            <a:ext cx="40050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3880" y="4054680"/>
            <a:ext cx="40050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944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40050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3880" y="1916280"/>
            <a:ext cx="40050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8360" y="4054680"/>
            <a:ext cx="820728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944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40050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3880" y="1916280"/>
            <a:ext cx="4005000" cy="40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68360" y="4054680"/>
            <a:ext cx="40050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944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0728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8360" y="4054680"/>
            <a:ext cx="820728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944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40050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3880" y="1916280"/>
            <a:ext cx="40050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360" y="4054680"/>
            <a:ext cx="40050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3880" y="4054680"/>
            <a:ext cx="40050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944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26424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43240" y="1916280"/>
            <a:ext cx="26424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18120" y="1916280"/>
            <a:ext cx="26424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8360" y="4054680"/>
            <a:ext cx="26424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43240" y="4054680"/>
            <a:ext cx="26424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18120" y="4054680"/>
            <a:ext cx="26424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944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68360" y="1916280"/>
            <a:ext cx="8207280" cy="40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944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07280" cy="40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944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4005000" cy="40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3880" y="1916280"/>
            <a:ext cx="4005000" cy="40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944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963360"/>
            <a:ext cx="8229600" cy="30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944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40050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3880" y="1916280"/>
            <a:ext cx="4005000" cy="40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8360" y="4054680"/>
            <a:ext cx="40050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944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4005000" cy="40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880" y="1916280"/>
            <a:ext cx="40050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3880" y="4054680"/>
            <a:ext cx="40050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944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4005000" cy="40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3880" y="1916280"/>
            <a:ext cx="40050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3880" y="4054680"/>
            <a:ext cx="40050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944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40050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3880" y="1916280"/>
            <a:ext cx="40050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8360" y="4054680"/>
            <a:ext cx="820728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944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0728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8360" y="4054680"/>
            <a:ext cx="820728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944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40050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880" y="1916280"/>
            <a:ext cx="40050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8360" y="4054680"/>
            <a:ext cx="40050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3880" y="4054680"/>
            <a:ext cx="40050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944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26424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43240" y="1916280"/>
            <a:ext cx="26424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18120" y="1916280"/>
            <a:ext cx="26424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8360" y="4054680"/>
            <a:ext cx="26424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43240" y="4054680"/>
            <a:ext cx="26424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18120" y="4054680"/>
            <a:ext cx="26424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944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68360" y="1916280"/>
            <a:ext cx="8207280" cy="40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944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07280" cy="40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944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4005000" cy="40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880" y="1916280"/>
            <a:ext cx="4005000" cy="40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944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944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40050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880" y="1916280"/>
            <a:ext cx="40050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360" y="4054680"/>
            <a:ext cx="820728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963360"/>
            <a:ext cx="8229600" cy="30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944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40050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3880" y="1916280"/>
            <a:ext cx="4005000" cy="40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8360" y="4054680"/>
            <a:ext cx="40050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944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4005000" cy="40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3880" y="1916280"/>
            <a:ext cx="40050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3880" y="4054680"/>
            <a:ext cx="40050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944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40050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3880" y="1916280"/>
            <a:ext cx="40050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8360" y="4054680"/>
            <a:ext cx="820728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944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0728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8360" y="4054680"/>
            <a:ext cx="820728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944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40050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880" y="1916280"/>
            <a:ext cx="40050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8360" y="4054680"/>
            <a:ext cx="40050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3880" y="4054680"/>
            <a:ext cx="40050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944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26424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43240" y="1916280"/>
            <a:ext cx="26424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18120" y="1916280"/>
            <a:ext cx="26424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68360" y="4054680"/>
            <a:ext cx="26424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43240" y="4054680"/>
            <a:ext cx="26424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18120" y="4054680"/>
            <a:ext cx="26424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944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68360" y="1916280"/>
            <a:ext cx="8207280" cy="40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944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07280" cy="40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5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51" descr=""/>
          <p:cNvPicPr/>
          <p:nvPr/>
        </p:nvPicPr>
        <p:blipFill>
          <a:blip r:embed="rId2"/>
          <a:stretch/>
        </p:blipFill>
        <p:spPr>
          <a:xfrm>
            <a:off x="0" y="0"/>
            <a:ext cx="926928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14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5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43" descr=""/>
          <p:cNvPicPr/>
          <p:nvPr/>
        </p:nvPicPr>
        <p:blipFill>
          <a:blip r:embed="rId2"/>
          <a:stretch/>
        </p:blipFill>
        <p:spPr>
          <a:xfrm>
            <a:off x="0" y="0"/>
            <a:ext cx="9269280" cy="6858000"/>
          </a:xfrm>
          <a:prstGeom prst="rect">
            <a:avLst/>
          </a:prstGeom>
          <a:ln w="0">
            <a:noFill/>
          </a:ln>
        </p:spPr>
      </p:pic>
      <p:sp>
        <p:nvSpPr>
          <p:cNvPr id="351" name="PlaceHolder 1"/>
          <p:cNvSpPr>
            <a:spLocks noGrp="1"/>
          </p:cNvSpPr>
          <p:nvPr>
            <p:ph type="body"/>
          </p:nvPr>
        </p:nvSpPr>
        <p:spPr>
          <a:xfrm>
            <a:off x="468360" y="1916280"/>
            <a:ext cx="8207280" cy="40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title"/>
          </p:nvPr>
        </p:nvSpPr>
        <p:spPr>
          <a:xfrm>
            <a:off x="457200" y="963360"/>
            <a:ext cx="8229600" cy="66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5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43" descr=""/>
          <p:cNvPicPr/>
          <p:nvPr/>
        </p:nvPicPr>
        <p:blipFill>
          <a:blip r:embed="rId2"/>
          <a:stretch/>
        </p:blipFill>
        <p:spPr>
          <a:xfrm>
            <a:off x="0" y="0"/>
            <a:ext cx="9269280" cy="6858000"/>
          </a:xfrm>
          <a:prstGeom prst="rect">
            <a:avLst/>
          </a:prstGeom>
          <a:ln w="0">
            <a:noFill/>
          </a:ln>
        </p:spPr>
      </p:pic>
      <p:sp>
        <p:nvSpPr>
          <p:cNvPr id="390" name="PlaceHolder 1"/>
          <p:cNvSpPr>
            <a:spLocks noGrp="1"/>
          </p:cNvSpPr>
          <p:nvPr>
            <p:ph type="body"/>
          </p:nvPr>
        </p:nvSpPr>
        <p:spPr>
          <a:xfrm>
            <a:off x="468360" y="1916280"/>
            <a:ext cx="8207280" cy="40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title"/>
          </p:nvPr>
        </p:nvSpPr>
        <p:spPr>
          <a:xfrm>
            <a:off x="457200" y="963360"/>
            <a:ext cx="8229600" cy="66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5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Picture 43" descr=""/>
          <p:cNvPicPr/>
          <p:nvPr/>
        </p:nvPicPr>
        <p:blipFill>
          <a:blip r:embed="rId2"/>
          <a:stretch/>
        </p:blipFill>
        <p:spPr>
          <a:xfrm>
            <a:off x="0" y="0"/>
            <a:ext cx="9269280" cy="6858000"/>
          </a:xfrm>
          <a:prstGeom prst="rect">
            <a:avLst/>
          </a:prstGeom>
          <a:ln w="0">
            <a:noFill/>
          </a:ln>
        </p:spPr>
      </p:pic>
      <p:sp>
        <p:nvSpPr>
          <p:cNvPr id="429" name="PlaceHolder 1"/>
          <p:cNvSpPr>
            <a:spLocks noGrp="1"/>
          </p:cNvSpPr>
          <p:nvPr>
            <p:ph type="body"/>
          </p:nvPr>
        </p:nvSpPr>
        <p:spPr>
          <a:xfrm>
            <a:off x="468360" y="1916280"/>
            <a:ext cx="8207280" cy="40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title"/>
          </p:nvPr>
        </p:nvSpPr>
        <p:spPr>
          <a:xfrm>
            <a:off x="457200" y="963360"/>
            <a:ext cx="8229600" cy="66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5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Picture 43" descr=""/>
          <p:cNvPicPr/>
          <p:nvPr/>
        </p:nvPicPr>
        <p:blipFill>
          <a:blip r:embed="rId2"/>
          <a:stretch/>
        </p:blipFill>
        <p:spPr>
          <a:xfrm>
            <a:off x="0" y="0"/>
            <a:ext cx="9269280" cy="6858000"/>
          </a:xfrm>
          <a:prstGeom prst="rect">
            <a:avLst/>
          </a:prstGeom>
          <a:ln w="0">
            <a:noFill/>
          </a:ln>
        </p:spPr>
      </p:pic>
      <p:sp>
        <p:nvSpPr>
          <p:cNvPr id="468" name="PlaceHolder 1"/>
          <p:cNvSpPr>
            <a:spLocks noGrp="1"/>
          </p:cNvSpPr>
          <p:nvPr>
            <p:ph type="body"/>
          </p:nvPr>
        </p:nvSpPr>
        <p:spPr>
          <a:xfrm>
            <a:off x="468360" y="1916280"/>
            <a:ext cx="8207280" cy="40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title"/>
          </p:nvPr>
        </p:nvSpPr>
        <p:spPr>
          <a:xfrm>
            <a:off x="457200" y="963360"/>
            <a:ext cx="8229600" cy="66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5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Picture 43" descr=""/>
          <p:cNvPicPr/>
          <p:nvPr/>
        </p:nvPicPr>
        <p:blipFill>
          <a:blip r:embed="rId2"/>
          <a:stretch/>
        </p:blipFill>
        <p:spPr>
          <a:xfrm>
            <a:off x="0" y="0"/>
            <a:ext cx="9269280" cy="6858000"/>
          </a:xfrm>
          <a:prstGeom prst="rect">
            <a:avLst/>
          </a:prstGeom>
          <a:ln w="0">
            <a:noFill/>
          </a:ln>
        </p:spPr>
      </p:pic>
      <p:sp>
        <p:nvSpPr>
          <p:cNvPr id="507" name="PlaceHolder 1"/>
          <p:cNvSpPr>
            <a:spLocks noGrp="1"/>
          </p:cNvSpPr>
          <p:nvPr>
            <p:ph type="body"/>
          </p:nvPr>
        </p:nvSpPr>
        <p:spPr>
          <a:xfrm>
            <a:off x="468360" y="1916280"/>
            <a:ext cx="8207280" cy="40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title"/>
          </p:nvPr>
        </p:nvSpPr>
        <p:spPr>
          <a:xfrm>
            <a:off x="457200" y="963360"/>
            <a:ext cx="8229600" cy="66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5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Picture 43" descr=""/>
          <p:cNvPicPr/>
          <p:nvPr/>
        </p:nvPicPr>
        <p:blipFill>
          <a:blip r:embed="rId2"/>
          <a:stretch/>
        </p:blipFill>
        <p:spPr>
          <a:xfrm>
            <a:off x="0" y="0"/>
            <a:ext cx="9269280" cy="6858000"/>
          </a:xfrm>
          <a:prstGeom prst="rect">
            <a:avLst/>
          </a:prstGeom>
          <a:ln w="0">
            <a:noFill/>
          </a:ln>
        </p:spPr>
      </p:pic>
      <p:sp>
        <p:nvSpPr>
          <p:cNvPr id="546" name="PlaceHolder 1"/>
          <p:cNvSpPr>
            <a:spLocks noGrp="1"/>
          </p:cNvSpPr>
          <p:nvPr>
            <p:ph type="body"/>
          </p:nvPr>
        </p:nvSpPr>
        <p:spPr>
          <a:xfrm>
            <a:off x="468360" y="1916280"/>
            <a:ext cx="8207280" cy="40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title"/>
          </p:nvPr>
        </p:nvSpPr>
        <p:spPr>
          <a:xfrm>
            <a:off x="457200" y="963360"/>
            <a:ext cx="8229600" cy="66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5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4" name="Picture 43" descr=""/>
          <p:cNvPicPr/>
          <p:nvPr/>
        </p:nvPicPr>
        <p:blipFill>
          <a:blip r:embed="rId2"/>
          <a:stretch/>
        </p:blipFill>
        <p:spPr>
          <a:xfrm>
            <a:off x="0" y="0"/>
            <a:ext cx="9269280" cy="6858000"/>
          </a:xfrm>
          <a:prstGeom prst="rect">
            <a:avLst/>
          </a:prstGeom>
          <a:ln w="0">
            <a:noFill/>
          </a:ln>
        </p:spPr>
      </p:pic>
      <p:sp>
        <p:nvSpPr>
          <p:cNvPr id="585" name="PlaceHolder 1"/>
          <p:cNvSpPr>
            <a:spLocks noGrp="1"/>
          </p:cNvSpPr>
          <p:nvPr>
            <p:ph type="body"/>
          </p:nvPr>
        </p:nvSpPr>
        <p:spPr>
          <a:xfrm>
            <a:off x="468360" y="1916280"/>
            <a:ext cx="8207280" cy="40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title"/>
          </p:nvPr>
        </p:nvSpPr>
        <p:spPr>
          <a:xfrm>
            <a:off x="457200" y="963360"/>
            <a:ext cx="8229600" cy="66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5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3" name="Picture 43" descr=""/>
          <p:cNvPicPr/>
          <p:nvPr/>
        </p:nvPicPr>
        <p:blipFill>
          <a:blip r:embed="rId2"/>
          <a:stretch/>
        </p:blipFill>
        <p:spPr>
          <a:xfrm>
            <a:off x="0" y="0"/>
            <a:ext cx="9269280" cy="6858000"/>
          </a:xfrm>
          <a:prstGeom prst="rect">
            <a:avLst/>
          </a:prstGeom>
          <a:ln w="0">
            <a:noFill/>
          </a:ln>
        </p:spPr>
      </p:pic>
      <p:sp>
        <p:nvSpPr>
          <p:cNvPr id="624" name="PlaceHolder 1"/>
          <p:cNvSpPr>
            <a:spLocks noGrp="1"/>
          </p:cNvSpPr>
          <p:nvPr>
            <p:ph type="body"/>
          </p:nvPr>
        </p:nvSpPr>
        <p:spPr>
          <a:xfrm>
            <a:off x="468360" y="1916280"/>
            <a:ext cx="8207280" cy="40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title"/>
          </p:nvPr>
        </p:nvSpPr>
        <p:spPr>
          <a:xfrm>
            <a:off x="457200" y="963360"/>
            <a:ext cx="8229600" cy="66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5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2" name="Picture 43" descr=""/>
          <p:cNvPicPr/>
          <p:nvPr/>
        </p:nvPicPr>
        <p:blipFill>
          <a:blip r:embed="rId2"/>
          <a:stretch/>
        </p:blipFill>
        <p:spPr>
          <a:xfrm>
            <a:off x="0" y="0"/>
            <a:ext cx="9269280" cy="6858000"/>
          </a:xfrm>
          <a:prstGeom prst="rect">
            <a:avLst/>
          </a:prstGeom>
          <a:ln w="0">
            <a:noFill/>
          </a:ln>
        </p:spPr>
      </p:pic>
      <p:sp>
        <p:nvSpPr>
          <p:cNvPr id="663" name="PlaceHolder 1"/>
          <p:cNvSpPr>
            <a:spLocks noGrp="1"/>
          </p:cNvSpPr>
          <p:nvPr>
            <p:ph type="body"/>
          </p:nvPr>
        </p:nvSpPr>
        <p:spPr>
          <a:xfrm>
            <a:off x="468360" y="1916280"/>
            <a:ext cx="8207280" cy="40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title"/>
          </p:nvPr>
        </p:nvSpPr>
        <p:spPr>
          <a:xfrm>
            <a:off x="457200" y="963360"/>
            <a:ext cx="8229600" cy="66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5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43" descr=""/>
          <p:cNvPicPr/>
          <p:nvPr/>
        </p:nvPicPr>
        <p:blipFill>
          <a:blip r:embed="rId2"/>
          <a:stretch/>
        </p:blipFill>
        <p:spPr>
          <a:xfrm>
            <a:off x="0" y="0"/>
            <a:ext cx="9269280" cy="6858000"/>
          </a:xfrm>
          <a:prstGeom prst="rect">
            <a:avLst/>
          </a:prstGeom>
          <a:ln w="0">
            <a:noFill/>
          </a:ln>
        </p:spPr>
      </p:pic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68360" y="1916280"/>
            <a:ext cx="8207280" cy="40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title"/>
          </p:nvPr>
        </p:nvSpPr>
        <p:spPr>
          <a:xfrm>
            <a:off x="457200" y="963360"/>
            <a:ext cx="8229600" cy="66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5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3" descr=""/>
          <p:cNvPicPr/>
          <p:nvPr/>
        </p:nvPicPr>
        <p:blipFill>
          <a:blip r:embed="rId2"/>
          <a:stretch/>
        </p:blipFill>
        <p:spPr>
          <a:xfrm>
            <a:off x="0" y="0"/>
            <a:ext cx="926928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body"/>
          </p:nvPr>
        </p:nvSpPr>
        <p:spPr>
          <a:xfrm>
            <a:off x="468360" y="1916280"/>
            <a:ext cx="8207280" cy="40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title"/>
          </p:nvPr>
        </p:nvSpPr>
        <p:spPr>
          <a:xfrm>
            <a:off x="457200" y="963360"/>
            <a:ext cx="8229600" cy="66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5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43" descr=""/>
          <p:cNvPicPr/>
          <p:nvPr/>
        </p:nvPicPr>
        <p:blipFill>
          <a:blip r:embed="rId2"/>
          <a:stretch/>
        </p:blipFill>
        <p:spPr>
          <a:xfrm>
            <a:off x="0" y="0"/>
            <a:ext cx="926928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body"/>
          </p:nvPr>
        </p:nvSpPr>
        <p:spPr>
          <a:xfrm>
            <a:off x="468360" y="1916280"/>
            <a:ext cx="8207280" cy="40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457200" y="963360"/>
            <a:ext cx="8229600" cy="66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5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43" descr=""/>
          <p:cNvPicPr/>
          <p:nvPr/>
        </p:nvPicPr>
        <p:blipFill>
          <a:blip r:embed="rId2"/>
          <a:stretch/>
        </p:blipFill>
        <p:spPr>
          <a:xfrm>
            <a:off x="0" y="0"/>
            <a:ext cx="9269280" cy="685800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body"/>
          </p:nvPr>
        </p:nvSpPr>
        <p:spPr>
          <a:xfrm>
            <a:off x="468360" y="1916280"/>
            <a:ext cx="8207280" cy="40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457200" y="963360"/>
            <a:ext cx="8229600" cy="66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5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43" descr=""/>
          <p:cNvPicPr/>
          <p:nvPr/>
        </p:nvPicPr>
        <p:blipFill>
          <a:blip r:embed="rId2"/>
          <a:stretch/>
        </p:blipFill>
        <p:spPr>
          <a:xfrm>
            <a:off x="0" y="0"/>
            <a:ext cx="9269280" cy="685800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468360" y="1916280"/>
            <a:ext cx="8207280" cy="40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title"/>
          </p:nvPr>
        </p:nvSpPr>
        <p:spPr>
          <a:xfrm>
            <a:off x="457200" y="963360"/>
            <a:ext cx="8229600" cy="66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5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43" descr=""/>
          <p:cNvPicPr/>
          <p:nvPr/>
        </p:nvPicPr>
        <p:blipFill>
          <a:blip r:embed="rId2"/>
          <a:stretch/>
        </p:blipFill>
        <p:spPr>
          <a:xfrm>
            <a:off x="0" y="0"/>
            <a:ext cx="9269280" cy="685800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1"/>
          <p:cNvSpPr>
            <a:spLocks noGrp="1"/>
          </p:cNvSpPr>
          <p:nvPr>
            <p:ph type="body"/>
          </p:nvPr>
        </p:nvSpPr>
        <p:spPr>
          <a:xfrm>
            <a:off x="468360" y="1916280"/>
            <a:ext cx="8207280" cy="40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title"/>
          </p:nvPr>
        </p:nvSpPr>
        <p:spPr>
          <a:xfrm>
            <a:off x="457200" y="963360"/>
            <a:ext cx="8229600" cy="66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5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43" descr=""/>
          <p:cNvPicPr/>
          <p:nvPr/>
        </p:nvPicPr>
        <p:blipFill>
          <a:blip r:embed="rId2"/>
          <a:stretch/>
        </p:blipFill>
        <p:spPr>
          <a:xfrm>
            <a:off x="0" y="0"/>
            <a:ext cx="9269280" cy="685800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 type="body"/>
          </p:nvPr>
        </p:nvSpPr>
        <p:spPr>
          <a:xfrm>
            <a:off x="468360" y="1916280"/>
            <a:ext cx="8207280" cy="40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title"/>
          </p:nvPr>
        </p:nvSpPr>
        <p:spPr>
          <a:xfrm>
            <a:off x="457200" y="963360"/>
            <a:ext cx="8229600" cy="66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5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Picture 43" descr=""/>
          <p:cNvPicPr/>
          <p:nvPr/>
        </p:nvPicPr>
        <p:blipFill>
          <a:blip r:embed="rId2"/>
          <a:stretch/>
        </p:blipFill>
        <p:spPr>
          <a:xfrm>
            <a:off x="0" y="0"/>
            <a:ext cx="9269280" cy="6858000"/>
          </a:xfrm>
          <a:prstGeom prst="rect">
            <a:avLst/>
          </a:prstGeom>
          <a:ln w="0">
            <a:noFill/>
          </a:ln>
        </p:spPr>
      </p:pic>
      <p:sp>
        <p:nvSpPr>
          <p:cNvPr id="312" name="PlaceHolder 1"/>
          <p:cNvSpPr>
            <a:spLocks noGrp="1"/>
          </p:cNvSpPr>
          <p:nvPr>
            <p:ph type="body"/>
          </p:nvPr>
        </p:nvSpPr>
        <p:spPr>
          <a:xfrm>
            <a:off x="468360" y="1916280"/>
            <a:ext cx="8207280" cy="40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title"/>
          </p:nvPr>
        </p:nvSpPr>
        <p:spPr>
          <a:xfrm>
            <a:off x="457200" y="963360"/>
            <a:ext cx="8229600" cy="66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2. Our Own Monsters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963360"/>
            <a:ext cx="8229600" cy="66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Who am I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0728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 have had as many names as there are years to time itself!  I am Herne the Hunter! I am Cernunnos! I am the eternal Green Man! I am the spine that the mountains hang upon! I am the tears that the rivers cry! I am the lungs that breathe the wind! I am the wolf that kills the stag, the hawk that kills the mouse, the spider that kills the fly! I am the stag, the mouse and the fly that are eaten! I am the snake of the world devouring its tail! I am everything untamed and untameable! I am this wild earth, come for you, Conor O’Malley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963360"/>
            <a:ext cx="8229600" cy="66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Who am I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20764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lnSpc>
                <a:spcPts val="33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 have had as many names as there are years to time itself!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33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 am Herne the Hunter! I am Cernunnos! I am the eternal Green Ma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33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 am the spine that the mountains hang upon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33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 am the tears that the rivers cry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33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 am the lungs that breathe the wind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33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 am the wolf that kills the stag, the hawk that kills the mouse, the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33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pider that kills the fly!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33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 am the stag, the mouse and the fly that are eaten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33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 am the snake of the world devouring its tail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33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 am everything untamed and untameable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33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 am this wild earth, come for you, Conor O’Malley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963360"/>
            <a:ext cx="8229600" cy="66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Who am I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39280" y="1699920"/>
            <a:ext cx="82076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lnSpc>
                <a:spcPts val="33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 have had as many names as there are years to time itself!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33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I am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rne the Hunter! I am Cernunnos!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I am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eternal Green Ma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33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I am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spine that the mountains hang upon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33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I am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tears that the rivers cry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33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I am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lungs that breathe the wind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33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I am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wolf that kills the stag, the hawk that kills the mouse, the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33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pider that kills the fly!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33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I am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stag, the mouse and the fly that are eaten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33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I am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snake of the world devouring its tail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33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I am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verything untamed and untameable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33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I am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wild earth, come for you, Conor O’Malley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963360"/>
            <a:ext cx="8229600" cy="66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Who am I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20764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lnSpc>
                <a:spcPts val="33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 have had as many names as there are years to time itself!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33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 am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Herne the Hunter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! I am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Cernunnos!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 am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the eternal Green Ma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33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 am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the spine that the mountains hang upon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33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 am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the tears that the rivers cry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33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 am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the lungs that breathe the wind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33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 am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the wolf that kills the stag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the hawk that kills the mous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33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the spider that kills the fly!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33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 am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the stag, the mouse and the fly that are eaten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33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 am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the snake of the world devouring its tail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33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 am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everything untamed and untameable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33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 am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this wild earth, come for you, Conor O’Malley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"/>
          <p:cNvSpPr txBox="1"/>
          <p:nvPr/>
        </p:nvSpPr>
        <p:spPr>
          <a:xfrm>
            <a:off x="468360" y="1773000"/>
            <a:ext cx="820728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faintly felt the huge hands of the monster pick him up, forming a little nest to hold him.  He was only vaguely aware of the leaves and branches twisting around him, softening and widening to let him lie bac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’s my fault,’ Conor said.  ‘I let her go.  It’s my fault.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t is not your fault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onster said, its voice floating in the air around him like a breez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3T13:21:58Z</dcterms:created>
  <dc:creator>Pearson Education</dc:creator>
  <dc:description/>
  <dc:language>en-US</dc:language>
  <cp:lastModifiedBy>Archer, Katy</cp:lastModifiedBy>
  <cp:lastPrinted>2014-09-05T14:28:17Z</cp:lastPrinted>
  <dcterms:modified xsi:type="dcterms:W3CDTF">2014-09-24T09:16:50Z</dcterms:modified>
  <cp:revision>99</cp:revision>
  <dc:subject/>
  <dc:title>Slide 1</dc:title>
</cp:coreProperties>
</file>